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92960" indent="-741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297000" indent="-59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415800" indent="-59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7600" y="-59544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Gill Sans"/>
              </a:rPr>
              <a:t>Выводы: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7960" y="1852560"/>
            <a:ext cx="11665080" cy="712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Последствия террора - человеческие жертвы и нарушение главного права человека –</a:t>
            </a:r>
            <a:r>
              <a:rPr b="0" lang="ru-RU" sz="4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права на жизнь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терроризм останавливает или замедляет урегулирование конфликтов в разных точках планеты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терроризм провоцирует, продолжает и углубляет уже существующие конфликты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в результате этого возникает замкнутый круг: насилие провоцирует насилие в ответ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7280" y="-514440"/>
            <a:ext cx="1276848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ill Sans"/>
              </a:rPr>
              <a:t>Главная цель политического террора: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9960" y="1708200"/>
            <a:ext cx="11880720" cy="720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уничтожение конкретного известного человека;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общественный резонанс, который вызовет эта акция;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давление на политиков, военачальников и финансистов.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1154520" y="-514440"/>
            <a:ext cx="13920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ill Sans"/>
              </a:rPr>
              <a:t>Основные цели</a:t>
            </a:r>
            <a:r>
              <a:rPr b="1" lang="ru-RU" sz="6000" spc="-1" strike="noStrike">
                <a:solidFill>
                  <a:srgbClr val="ffffff"/>
                </a:solidFill>
                <a:latin typeface="Gill Sans"/>
              </a:rPr>
              <a:t> терроризма</a:t>
            </a:r>
            <a:r>
              <a:rPr b="1" lang="en-US" sz="6000" spc="-1" strike="noStrike">
                <a:solidFill>
                  <a:srgbClr val="ffffff"/>
                </a:solidFill>
                <a:latin typeface="Gill Sans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54080" y="2139840"/>
            <a:ext cx="10848960" cy="650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вызвать страх из-за возможных человеческих жертв;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обратить на себя внимание;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подорвать авторитет власти;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добиться удовлетворения тех или иных требований.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37960" y="-524160"/>
            <a:ext cx="124574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Что побуждает террористов к насилию?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1079640" y="3009960"/>
            <a:ext cx="11544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7000"/>
          </a:bodyPr>
          <a:p>
            <a:pPr marL="175680" indent="-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Ненависть к представителям других рас, национальностей, религий, культур, политических сил, которые очень часто обусловлены необразованностью и страхом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175680" indent="-175680">
              <a:lnSpc>
                <a:spcPct val="100000"/>
              </a:lnSpc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75680" indent="-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Желание уничтожить представителей “других” групп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175680" indent="-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75680" indent="-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Безысходность: поскольку кажется, что другие силы недосягаемы, то возникает желание ценой своей жизни нарушить эту недосягаемость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175680" indent="-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175680" indent="-17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Несправедливость - акты терроризма обусловлены тем, что к представителям того сообщества, к которому принадлежат террористы, “другие” относятся несправедливо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Nordost-dubrovka"/>
          <p:cNvPicPr/>
          <p:nvPr/>
        </p:nvPicPr>
        <p:blipFill>
          <a:blip r:embed="rId1"/>
          <a:srcRect l="19122" t="0" r="0" b="54428"/>
          <a:stretch/>
        </p:blipFill>
        <p:spPr>
          <a:xfrm>
            <a:off x="0" y="-17640"/>
            <a:ext cx="13004640" cy="97711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"/>
          <p:cNvSpPr/>
          <p:nvPr/>
        </p:nvSpPr>
        <p:spPr>
          <a:xfrm>
            <a:off x="0" y="7540560"/>
            <a:ext cx="6431040" cy="1224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-122400" y="761220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Памятник жертва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«Норд-Оста» в Москве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0761678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6"/>
          <p:cNvSpPr/>
          <p:nvPr/>
        </p:nvSpPr>
        <p:spPr>
          <a:xfrm>
            <a:off x="0" y="412920"/>
            <a:ext cx="5278320" cy="1223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44360" y="54612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ill Sans"/>
              </a:rPr>
              <a:t>Памятник жертва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ill Sans"/>
              </a:rPr>
              <a:t>бесланской трагедии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beit20leedgr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0" y="412920"/>
            <a:ext cx="6431040" cy="1223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-122400" y="48420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Памятник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«Лестница в небо» в Израиле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1618"/>
          <p:cNvPicPr/>
          <p:nvPr/>
        </p:nvPicPr>
        <p:blipFill>
          <a:blip r:embed="rId1"/>
          <a:srcRect l="5261" t="0" r="5910" b="0"/>
          <a:stretch/>
        </p:blipFill>
        <p:spPr>
          <a:xfrm>
            <a:off x="0" y="0"/>
            <a:ext cx="13004640" cy="975996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6"/>
          <p:cNvSpPr/>
          <p:nvPr/>
        </p:nvSpPr>
        <p:spPr>
          <a:xfrm>
            <a:off x="-71280" y="8190000"/>
            <a:ext cx="7869240" cy="1224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0" y="82612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Памятник  «Слеза скорби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жертвам 11 сентября в Нью-Йорке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5"/>
          <p:cNvSpPr/>
          <p:nvPr/>
        </p:nvSpPr>
        <p:spPr>
          <a:xfrm>
            <a:off x="3025800" y="2685960"/>
            <a:ext cx="6953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287280" y="731880"/>
            <a:ext cx="12408120" cy="7816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453960" y="2573280"/>
            <a:ext cx="1216836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Европейцы всегда пытались изменить Восток, сделать его таким же, как Запад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Это ни к чему. Сама по себе восточная культура самодостаточна, её просто необходимо понять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Понимание –</a:t>
            </a:r>
            <a:r>
              <a:rPr b="1" lang="ru-RU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вот ключ к решению проблем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37600" y="123840"/>
            <a:ext cx="10464840" cy="102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Verdana"/>
                <a:ea typeface="Arial"/>
              </a:rPr>
              <a:t>Цели: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5680" y="1420560"/>
            <a:ext cx="12268080" cy="806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117440" indent="-7999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принципы возникновения и распространения терроризма, выяснить его основные направления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-7999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усовершенствовать навыки работы в группе, аргументации и переубеждения, критического и творческого мышления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-7999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неприятие насилия как средства разрешения конфликтов, уважение к человеку, его правам и свободам, чести и достоинству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1355040" y="4008600"/>
            <a:ext cx="10458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Gill Sans"/>
              </a:rPr>
              <a:t>Спасибо за внимание!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2080" y="0"/>
            <a:ext cx="1109808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Arial"/>
              </a:rPr>
              <a:t>Ожидаемые</a:t>
            </a:r>
            <a:r>
              <a:rPr b="1" lang="ru-RU" sz="5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Arial"/>
              </a:rPr>
              <a:t>результаты</a:t>
            </a:r>
            <a:r>
              <a:rPr b="1" lang="en-US" sz="70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3960" y="2733840"/>
            <a:ext cx="12025440" cy="624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понятие “терроризм”, причины его возникновения и существование в наше время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ть и высказывать собственные мысли по поводу причин существования терроризма в настоящее время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741240" y="2355840"/>
            <a:ext cx="8293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после урока ученики смогут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1052640" y="268200"/>
            <a:ext cx="11498040" cy="91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  <a:ea typeface="Arial"/>
              </a:rPr>
              <a:t>Терроризм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насилие по отношению к политическим врагам, политика запугивания, подавления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(Школьный словарь иностранных слов. - М.: Просвещение, 1983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  <a:ea typeface="Arial"/>
              </a:rPr>
              <a:t>Терроризм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ие, организация, способствование  осуществлению, финансирование или поощерение пред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ителей государства или допущение с их стороны осуществления актов, направленных против лиц или собственности, которые ставят целью нагнетание страха у государственных деятелей, групп лиц или населения вообще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(Кодекс преступлений против мира и безопасности человечества, ст. 24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436680" y="357120"/>
          <a:ext cx="12187080" cy="8983800"/>
        </p:xfrm>
        <a:graphic>
          <a:graphicData uri="http://schemas.openxmlformats.org/drawingml/2006/table">
            <a:tbl>
              <a:tblPr/>
              <a:tblGrid>
                <a:gridCol w="4062240"/>
                <a:gridCol w="8124840"/>
              </a:tblGrid>
              <a:tr h="1189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Событ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23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йские народникик после нескольких недачных попыток убили императора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андра I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ртвой террористов стал французский президент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ди Карн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ртельно ранена императрица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изавета Австрийская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убит испанский премьер-министр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тонио Канова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оль Италии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берто I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стал жертвой террорис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л убит президент США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ильям Маккин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2-19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оссии эсерами и их сторонниками было совершено около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0 террактов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жертвами которых стали министры, депутаты Государственной Думы, жандармы полиции, прокуратуры и др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216000" y="458640"/>
          <a:ext cx="12623760" cy="8661600"/>
        </p:xfrm>
        <a:graphic>
          <a:graphicData uri="http://schemas.openxmlformats.org/drawingml/2006/table">
            <a:tbl>
              <a:tblPr/>
              <a:tblGrid>
                <a:gridCol w="4208400"/>
                <a:gridCol w="8415360"/>
              </a:tblGrid>
              <a:tr h="1106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Событ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854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пон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Члены секты “Аум синрике” пронесли 6 бутылок со смертельным ядом (зарином) в поезд токийского метро и осуществили газовую атаку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16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трада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около 5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В результате взрыва бомбы в Оклахома-Сити было разрушено административное здани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16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более 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гл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На автостоянке была взорвана бомб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</a:t>
                      </a:r>
                      <a:r>
                        <a:rPr b="1" lang="ru-RU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около 1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раиль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В Иерусалиме террорист-смертник подорвал автобус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ru-RU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умб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Взорвана бомба и снаряд, повредившие нефтепровод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20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более 1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309600" y="412920"/>
          <a:ext cx="12457080" cy="8713440"/>
        </p:xfrm>
        <a:graphic>
          <a:graphicData uri="http://schemas.openxmlformats.org/drawingml/2006/table">
            <a:tbl>
              <a:tblPr/>
              <a:tblGrid>
                <a:gridCol w="4152960"/>
                <a:gridCol w="8304120"/>
              </a:tblGrid>
              <a:tr h="1377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быт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5796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Резрушены мощнейшими взрывами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а дома в Москв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12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е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Атака на здания Всемирного торгового центра в Нью-Йорке и Пентагона в Вашингтон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ru-RU" sz="23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2819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 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б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олее 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донез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Теракт на острове Бали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Захват театрального центра “Норд-Ост” в Москве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ентября 20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Теракт в Беслане. В заложники были захвачены 1120 человек, преимущественно - дети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32097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25600" y="1851120"/>
          <a:ext cx="11860200" cy="7129440"/>
        </p:xfrm>
        <a:graphic>
          <a:graphicData uri="http://schemas.openxmlformats.org/drawingml/2006/table">
            <a:tbl>
              <a:tblPr/>
              <a:tblGrid>
                <a:gridCol w="1461960"/>
                <a:gridCol w="1627200"/>
                <a:gridCol w="5070600"/>
                <a:gridCol w="3700440"/>
              </a:tblGrid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сто в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йтин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погибших в терактах на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рритории страны в 199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0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год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погибших в терактах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на 1 млн жителей стра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ра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ум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ж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ки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г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ри-Ла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Rectangle 100"/>
          <p:cNvSpPr/>
          <p:nvPr/>
        </p:nvSpPr>
        <p:spPr>
          <a:xfrm>
            <a:off x="1800" y="6018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Text Box 205"/>
          <p:cNvSpPr/>
          <p:nvPr/>
        </p:nvSpPr>
        <p:spPr>
          <a:xfrm>
            <a:off x="669960" y="52560"/>
            <a:ext cx="11665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ill Sans"/>
              </a:rPr>
              <a:t>Страны, наиболее пострадавшие от терроризма в 1994-2010 годах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3840" y="-58608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  <a:ea typeface="Arial"/>
              </a:rPr>
              <a:t>Работа в группах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9960" y="1420920"/>
            <a:ext cx="11736360" cy="77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рассмотреть примеры актов терроризма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выделить пр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чины и цели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В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делить виды и особенности современного терроризма и меры борьбы с ним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UGOR__007</cp:lastModifiedBy>
  <dcterms:modified xsi:type="dcterms:W3CDTF">2017-06-21T11:12:55Z</dcterms:modified>
  <cp:revision>15</cp:revision>
  <dc:subject/>
  <dc:title>ТЕРРОРИЗМ - УГРОЗА ЧЕЛОВЕЧЕСТВУ</dc:title>
</cp:coreProperties>
</file>