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A2E-E528-4B19-A8B4-A2B0E956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3C0-9153-4FD1-9651-143870AC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DC6-95FA-4CDD-8CC8-7C06C9C6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CA1-AB71-4E35-BD78-A7CE718F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301-7D1C-4EAD-8B60-368791A3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A29-4F17-4282-87F4-0B45BF17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D72-9A6A-4649-9BB0-FB42A09C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0B0-A075-429E-A17D-7EC67A48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2F4-DCC8-4B05-A9D0-923F5423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CA3-9034-49E5-8600-8F2004F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B04-FAA1-40DE-83BC-B1899FC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0A1-9A4B-45D7-B54B-25F2F222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D80B-2EE7-48F8-B324-E164A96B1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85840" y="1071720"/>
            <a:ext cx="857232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езентация по теме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«Террориз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143080" y="4797360"/>
            <a:ext cx="700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подаватель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: Турлаев Алмагомед Ану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g9[1]"/>
          <p:cNvPicPr/>
          <p:nvPr/>
        </p:nvPicPr>
        <p:blipFill>
          <a:blip r:embed="rId2"/>
          <a:stretch/>
        </p:blipFill>
        <p:spPr>
          <a:xfrm>
            <a:off x="2268360" y="981000"/>
            <a:ext cx="4677120" cy="494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9785170413126[1]"/>
          <p:cNvPicPr/>
          <p:nvPr/>
        </p:nvPicPr>
        <p:blipFill>
          <a:blip r:embed="rId3"/>
          <a:stretch/>
        </p:blipFill>
        <p:spPr>
          <a:xfrm>
            <a:off x="0" y="0"/>
            <a:ext cx="3048120" cy="490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127640_v-ih-rukah-nashi-sudbyi[1]"/>
          <p:cNvPicPr/>
          <p:nvPr/>
        </p:nvPicPr>
        <p:blipFill>
          <a:blip r:embed="rId4"/>
          <a:stretch/>
        </p:blipFill>
        <p:spPr>
          <a:xfrm>
            <a:off x="3195720" y="0"/>
            <a:ext cx="5948280" cy="556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52d878e7446d47d93a7e7364e7c[1]"/>
          <p:cNvPicPr/>
          <p:nvPr/>
        </p:nvPicPr>
        <p:blipFill>
          <a:blip r:embed="rId5"/>
          <a:stretch/>
        </p:blipFill>
        <p:spPr>
          <a:xfrm>
            <a:off x="0" y="2563920"/>
            <a:ext cx="5724360" cy="4294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066fb8a1f762[1]"/>
          <p:cNvPicPr/>
          <p:nvPr/>
        </p:nvPicPr>
        <p:blipFill>
          <a:blip r:embed="rId6"/>
          <a:stretch/>
        </p:blipFill>
        <p:spPr>
          <a:xfrm>
            <a:off x="3348000" y="1557360"/>
            <a:ext cx="2762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836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a0a"/>
                </a:solidFill>
                <a:latin typeface="Arial"/>
              </a:rPr>
              <a:t>Терроризм</a:t>
            </a:r>
            <a:r>
              <a:rPr b="0" lang="ru-RU" sz="1800" spc="-1" strike="noStrike">
                <a:solidFill>
                  <a:srgbClr val="8c0a0a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итика, основанная на систематическом применении террора. Общепринятого юридического определения этого понятия не существует. В российском праве определяется как идеология насилия и практика воздействия на общественное сознание, на принятие решений органами государственной власти, органами местного самоуправления или международными организациями, связанные с устрашением населения и/или иными формами противоправных насильственных дей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1259159805_425786[1]"/>
          <p:cNvPicPr/>
          <p:nvPr/>
        </p:nvPicPr>
        <p:blipFill>
          <a:blip r:embed="rId2"/>
          <a:stretch/>
        </p:blipFill>
        <p:spPr>
          <a:xfrm>
            <a:off x="5334120" y="3716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6[1]"/>
          <p:cNvPicPr/>
          <p:nvPr/>
        </p:nvPicPr>
        <p:blipFill>
          <a:blip r:embed="rId3"/>
          <a:stretch/>
        </p:blipFill>
        <p:spPr>
          <a:xfrm>
            <a:off x="611280" y="2809800"/>
            <a:ext cx="30477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2349360"/>
            <a:ext cx="4392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рганизованный или индивидуальны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терроризм одиночек) — в этом случае теракт (реже, ряд терактов) совершает один-два человека, за которыми не стоит какая-либо организ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332000" y="260280"/>
            <a:ext cx="71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характеру субъекта террористиче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8c0a0a"/>
                </a:solidFill>
                <a:latin typeface="Arial"/>
              </a:rPr>
              <a:t>террор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ли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211640" y="4327560"/>
            <a:ext cx="464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нный, коллектив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террористическая деятельность планируется и реализуется некой организацией. Организованный терроризм — наиболее распространённый в современно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826920" y="112536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4000" y="836640"/>
            <a:ext cx="8280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им целя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рроризм дели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ционалистиче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реследует сепаратистские или национально-освободительные цел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лигиоз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может быть связан с борьбой приверженцев религии между собой (индуисты и мусульмане, мусульмане и христиане) и внутри одной веры (католики-протестанты, сунниты-шииты), и преследует цель подорвать светскую власть и утвердить власть религиозную (Исламистский терроризм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деологически заданный, социаль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реследует цель коренного или частичного изменения экономической или политической системы страны, привлечения внимания общества к какой-либо острой проблеме. Иногда этот вид терроризма называют революцио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140360" y="476280"/>
            <a:ext cx="5003640" cy="60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есла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сентябр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004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ланская школа № 1 была захвачена террористами, 1128 детей и взрослых были взяты в заложники. 3 сентября в результате теракта погибли 334 человека, в том числе 186 детей. В лечебные учреждения за помощью обратились более 100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оск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рывы в московском метро 2010 года —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взрыва, произведённых 29 марта 2010 года на станциях «Лубянка» и «Парк культуры» Сокольнической линии московского метрополитена, двумя российскими террористками-смертницами дагестанского происхождения. В результате взрывов погибло 40 и ранено 88 человек. Среди пострадавших были граждане России, Таджикистана, Киргизии, Филиппин, Израиля и Малайзи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94246_image_large[1]"/>
          <p:cNvPicPr/>
          <p:nvPr/>
        </p:nvPicPr>
        <p:blipFill>
          <a:blip r:embed="rId2"/>
          <a:stretch/>
        </p:blipFill>
        <p:spPr>
          <a:xfrm>
            <a:off x="0" y="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image_40965[1]"/>
          <p:cNvPicPr/>
          <p:nvPr/>
        </p:nvPicPr>
        <p:blipFill>
          <a:blip r:embed="rId3"/>
          <a:stretch/>
        </p:blipFill>
        <p:spPr>
          <a:xfrm>
            <a:off x="2714760" y="0"/>
            <a:ext cx="6429240" cy="459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0cc757c964b1f1be0eecbd3465c14aac[1]"/>
          <p:cNvPicPr/>
          <p:nvPr/>
        </p:nvPicPr>
        <p:blipFill>
          <a:blip r:embed="rId4"/>
          <a:stretch/>
        </p:blipFill>
        <p:spPr>
          <a:xfrm>
            <a:off x="5408640" y="2205000"/>
            <a:ext cx="3735360" cy="27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up49322-IMG_0389[1]"/>
          <p:cNvPicPr/>
          <p:nvPr/>
        </p:nvPicPr>
        <p:blipFill>
          <a:blip r:embed="rId5"/>
          <a:stretch/>
        </p:blipFill>
        <p:spPr>
          <a:xfrm>
            <a:off x="179280" y="2757600"/>
            <a:ext cx="547236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7554"/>
          <p:cNvPicPr/>
          <p:nvPr/>
        </p:nvPicPr>
        <p:blipFill>
          <a:blip r:embed="rId2"/>
          <a:stretch/>
        </p:blipFill>
        <p:spPr>
          <a:xfrm>
            <a:off x="179280" y="0"/>
            <a:ext cx="3954600" cy="252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beslan12[1]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90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50fa5c36e628[1]"/>
          <p:cNvPicPr/>
          <p:nvPr/>
        </p:nvPicPr>
        <p:blipFill>
          <a:blip r:embed="rId4"/>
          <a:stretch/>
        </p:blipFill>
        <p:spPr>
          <a:xfrm>
            <a:off x="468360" y="40464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283848259987[1]"/>
          <p:cNvPicPr/>
          <p:nvPr/>
        </p:nvPicPr>
        <p:blipFill>
          <a:blip r:embed="rId5"/>
          <a:stretch/>
        </p:blipFill>
        <p:spPr>
          <a:xfrm>
            <a:off x="3851280" y="2133720"/>
            <a:ext cx="3486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476280"/>
            <a:ext cx="792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ью- Йор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рористический акт 26 февраля 1993 год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 февраля 1993 г. в 12:17 дня на территорию Мирового Торгового Центра заехал грузовик с 680 кг взрывчатки, за рулем которого был Рамзи Юзеф. Он взорвался в подземном гараже Северной башни. В результате взрывной волной через 5 подземных этажей была проделана дыра диаметром 30 м, причинив максимальный ущерб уровням В1 и В2 за всю их историю и существенный ущерб уровню В3. Шесть человек было убито и еще 50 000 рабочих и посетителей не могли дышать из-за нехватки кислорода на 110 этажах башен. Многим людям, находившимся внутри Северной башни, пришлось спускаться вниз по тёмным лестницам, причём у некоторых на это ушло более двух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сеф сбежал в Пакистан вскоре после взрыва, но был арестован в Исламабаде в феврале 1995 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61_PamjatZTA20[1]"/>
          <p:cNvPicPr/>
          <p:nvPr/>
        </p:nvPicPr>
        <p:blipFill>
          <a:blip r:embed="rId2"/>
          <a:stretch/>
        </p:blipFill>
        <p:spPr>
          <a:xfrm>
            <a:off x="1908000" y="3357720"/>
            <a:ext cx="2330640" cy="313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750px-September_17_2001[1]"/>
          <p:cNvPicPr/>
          <p:nvPr/>
        </p:nvPicPr>
        <p:blipFill>
          <a:blip r:embed="rId3"/>
          <a:stretch/>
        </p:blipFill>
        <p:spPr>
          <a:xfrm>
            <a:off x="4687920" y="3292560"/>
            <a:ext cx="4456080" cy="3565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wtc_05[1]"/>
          <p:cNvPicPr/>
          <p:nvPr/>
        </p:nvPicPr>
        <p:blipFill>
          <a:blip r:embed="rId4"/>
          <a:stretch/>
        </p:blipFill>
        <p:spPr>
          <a:xfrm>
            <a:off x="0" y="0"/>
            <a:ext cx="3171960" cy="476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110908_172600_76271_30[1]"/>
          <p:cNvPicPr/>
          <p:nvPr/>
        </p:nvPicPr>
        <p:blipFill>
          <a:blip r:embed="rId5"/>
          <a:stretch/>
        </p:blipFill>
        <p:spPr>
          <a:xfrm>
            <a:off x="5364000" y="333360"/>
            <a:ext cx="28879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5:49:34Z</dcterms:created>
  <dc:creator>Мария</dc:creator>
  <dc:description/>
  <dc:language>en-US</dc:language>
  <cp:lastModifiedBy>BUGOR__007</cp:lastModifiedBy>
  <dcterms:modified xsi:type="dcterms:W3CDTF">2017-06-21T11:14:55Z</dcterms:modified>
  <cp:revision>8</cp:revision>
  <dc:subject/>
  <dc:title>Слайд 1</dc:title>
</cp:coreProperties>
</file>